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2.gif" ContentType="image/gif"/>
  <Override PartName="/ppt/media/image15.png" ContentType="image/png"/>
  <Override PartName="/ppt/media/drumroll.wav" ContentType="audio/x-wav"/>
  <Override PartName="/ppt/media/image7.gif" ContentType="image/gif"/>
  <Override PartName="/ppt/media/image18.wmf" ContentType="image/x-wmf"/>
  <Override PartName="/ppt/media/image11.gif" ContentType="image/gif"/>
  <Override PartName="/ppt/media/image14.png" ContentType="image/png"/>
  <Override PartName="/ppt/media/image20.gif" ContentType="image/gif"/>
  <Override PartName="/ppt/media/image3.gif" ContentType="image/gif"/>
  <Override PartName="/ppt/media/image19.png" ContentType="image/png"/>
  <Override PartName="/ppt/media/image16.png" ContentType="image/png"/>
  <Override PartName="/ppt/media/image1.png" ContentType="image/png"/>
  <Override PartName="/ppt/media/image21.gif" ContentType="image/gif"/>
  <Override PartName="/ppt/media/image4.gif" ContentType="image/gif"/>
  <Override PartName="/ppt/media/image2.png" ContentType="image/png"/>
  <Override PartName="/ppt/media/millionaire.wav" ContentType="audio/x-wav"/>
  <Override PartName="/ppt/media/image5.gif" ContentType="image/gif"/>
  <Override PartName="/ppt/media/image13.png" ContentType="image/png"/>
  <Override PartName="/ppt/media/image10.gif" ContentType="image/gif"/>
  <Override PartName="/ppt/media/image6.gif" ContentType="image/gif"/>
  <Override PartName="/ppt/media/image1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D84AD-876C-47A3-BF80-F607FC55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59294-7AFA-4F7B-9E91-89D34F29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62D24-DF6C-47BE-B130-393961FE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6D0E4-3C82-4733-A3FC-3280524D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7EAB-E827-492A-950B-0F9425BF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A896-E06E-4E57-93D8-E314628D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1AB7-C600-452D-8B60-CE22F0AC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4667-2214-4C91-8EDE-E337FBFE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71A9-49BA-45F4-A7C6-7BA8E3E0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75CC-5EC2-4EB1-8EE3-AD9F5297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4D4E-4CB7-4E85-91DD-679B6826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E50F4-3C5C-4393-B83B-9057717E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E95E-8EEE-4728-B4C9-3CE9D674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533C-47F3-4F95-82E3-B0C7791A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9946-B32F-4E43-A642-587F7713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D24B-852E-4BFD-A255-1B7A64A8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1228-D797-4591-896C-4C98CE6E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081F0-28B3-4D45-B17F-4B6447D0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FEB6B-569C-458A-8F28-926566E6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AC3E2-C61C-4C60-A70B-35780AEA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56DDF-1E56-4379-95D0-11705BEE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C6295-A6ED-42D9-8105-4B8A1B70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89B42-A07D-4F53-9919-3990FD59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738D-F218-4FB2-B944-238CAEA9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D214-04B8-446E-A629-EE77B3BC5B7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c4c4c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bbbbbb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d6d6d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c2c2c2"/>
                </a:gs>
                <a:gs pos="100000">
                  <a:srgbClr val="c0c0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9900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5463-411F-45C6-84E6-6C39C9156241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image" Target="../media/image3.gif"/><Relationship Id="rId10" Type="http://schemas.openxmlformats.org/officeDocument/2006/relationships/image" Target="../media/image7.gif"/><Relationship Id="rId11" Type="http://schemas.openxmlformats.org/officeDocument/2006/relationships/image" Target="../media/image8.gif"/><Relationship Id="rId12" Type="http://schemas.openxmlformats.org/officeDocument/2006/relationships/image" Target="../media/image9.gif"/><Relationship Id="rId13" Type="http://schemas.openxmlformats.org/officeDocument/2006/relationships/image" Target="../media/image10.gif"/><Relationship Id="rId14" Type="http://schemas.openxmlformats.org/officeDocument/2006/relationships/image" Target="../media/image4.gif"/><Relationship Id="rId15" Type="http://schemas.openxmlformats.org/officeDocument/2006/relationships/image" Target="../media/image5.gif"/><Relationship Id="rId16" Type="http://schemas.openxmlformats.org/officeDocument/2006/relationships/image" Target="../media/image9.gif"/><Relationship Id="rId17" Type="http://schemas.openxmlformats.org/officeDocument/2006/relationships/image" Target="../media/image11.gif"/><Relationship Id="rId18" Type="http://schemas.openxmlformats.org/officeDocument/2006/relationships/image" Target="../media/image12.gif"/><Relationship Id="rId19" Type="http://schemas.openxmlformats.org/officeDocument/2006/relationships/slide" Target="slide14.xml"/><Relationship Id="rId20" Type="http://schemas.openxmlformats.org/officeDocument/2006/relationships/image" Target="../media/image13.png"/><Relationship Id="rId21" Type="http://schemas.openxmlformats.org/officeDocument/2006/relationships/audio" Target="../media/millionaire.wav"/><Relationship Id="rId2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5"/>
          <p:cNvSpPr txBox="1"/>
          <p:nvPr/>
        </p:nvSpPr>
        <p:spPr>
          <a:xfrm>
            <a:off x="990720" y="1066680"/>
            <a:ext cx="7543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Внеклассное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мероприяти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nstantia"/>
              </a:rPr>
              <a:t>для старшеклассников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85800" y="762120"/>
            <a:ext cx="40384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0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3" descr="elv4"/>
          <p:cNvPicPr/>
          <p:nvPr/>
        </p:nvPicPr>
        <p:blipFill>
          <a:blip r:embed="rId1"/>
          <a:stretch/>
        </p:blipFill>
        <p:spPr>
          <a:xfrm>
            <a:off x="4343400" y="1590840"/>
            <a:ext cx="4419720" cy="404784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4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" name="Picture 5" descr="man11"/>
          <p:cNvPicPr/>
          <p:nvPr/>
        </p:nvPicPr>
        <p:blipFill>
          <a:blip r:embed="rId2"/>
          <a:stretch/>
        </p:blipFill>
        <p:spPr>
          <a:xfrm>
            <a:off x="1143000" y="4191120"/>
            <a:ext cx="4133880" cy="23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1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1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533520" y="251460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1 000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Маловато будет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Picture 6" descr="elv4"/>
          <p:cNvPicPr/>
          <p:nvPr/>
        </p:nvPicPr>
        <p:blipFill>
          <a:blip r:embed="rId1"/>
          <a:stretch/>
        </p:blipFill>
        <p:spPr>
          <a:xfrm>
            <a:off x="4724280" y="666720"/>
            <a:ext cx="4419720" cy="40482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9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1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1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85800" y="251460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32 000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Неплохо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5" name="Picture 3" descr="elv4"/>
          <p:cNvPicPr/>
          <p:nvPr/>
        </p:nvPicPr>
        <p:blipFill>
          <a:blip r:embed="rId1"/>
          <a:stretch/>
        </p:blipFill>
        <p:spPr>
          <a:xfrm>
            <a:off x="4419720" y="685800"/>
            <a:ext cx="4419360" cy="404820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5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1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1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380880" y="990720"/>
            <a:ext cx="4038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аш выигрыш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"/>
              </a:rPr>
              <a:t>250 00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балло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Вы отличн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"/>
              </a:rPr>
              <a:t>Потрудились!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3" descr="elv4"/>
          <p:cNvPicPr/>
          <p:nvPr/>
        </p:nvPicPr>
        <p:blipFill>
          <a:blip r:embed="rId1"/>
          <a:stretch/>
        </p:blipFill>
        <p:spPr>
          <a:xfrm>
            <a:off x="4419720" y="685800"/>
            <a:ext cx="4419360" cy="404820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4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13881" y="3837"/>
                </a:moveTo>
                <a:lnTo>
                  <a:pt x="16457" y="6448"/>
                </a:ln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lnTo>
                  <a:pt x="20843" y="10800"/>
                </a:lnTo>
                <a:lnTo>
                  <a:pt x="19190" y="10800"/>
                </a:lnTo>
                <a:lnTo>
                  <a:pt x="19190" y="17989"/>
                </a:lnTo>
                <a:lnTo>
                  <a:pt x="8571" y="17989"/>
                </a:lnTo>
                <a:lnTo>
                  <a:pt x="8571" y="10800"/>
                </a:lnTo>
                <a:lnTo>
                  <a:pt x="6918" y="10800"/>
                </a:lnTo>
                <a:close/>
              </a:path>
              <a:path fill="darkenLess" w="27761" h="21600">
                <a:moveTo>
                  <a:pt x="16457" y="6448"/>
                </a:moveTo>
                <a:lnTo>
                  <a:pt x="16457" y="4707"/>
                </a:lnTo>
                <a:lnTo>
                  <a:pt x="18232" y="4707"/>
                </a:lnTo>
                <a:lnTo>
                  <a:pt x="18232" y="8224"/>
                </a:lnTo>
                <a:close/>
              </a:path>
              <a:path fill="darkenLess" w="27761" h="21600">
                <a:moveTo>
                  <a:pt x="12958" y="14299"/>
                </a:moveTo>
                <a:lnTo>
                  <a:pt x="14803" y="14299"/>
                </a:lnTo>
                <a:lnTo>
                  <a:pt x="14803" y="17989"/>
                </a:lnTo>
                <a:lnTo>
                  <a:pt x="19190" y="17989"/>
                </a:lnTo>
                <a:lnTo>
                  <a:pt x="19190" y="10800"/>
                </a:lnTo>
                <a:lnTo>
                  <a:pt x="8571" y="10800"/>
                </a:lnTo>
                <a:lnTo>
                  <a:pt x="8571" y="17989"/>
                </a:lnTo>
                <a:lnTo>
                  <a:pt x="12958" y="17989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1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1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StoneSerif SAIN SmBd v.1"/>
              </a:rPr>
              <a:t>  </a:t>
            </a: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Расположите названия произведений Пушкина в алфавитном порядке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590560"/>
            <a:ext cx="2824200" cy="35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А: “Гробовщик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В: “Барышня-крестьянка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С: “Выстрел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ff"/>
                </a:solidFill>
                <a:latin typeface="Tahoma"/>
              </a:rPr>
              <a:t>D: “Дубровский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29200" y="2361960"/>
            <a:ext cx="3657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“Барышня-крестьянка”</a:t>
            </a: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“Выстрел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“Гробовщик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“Дубровский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6">
            <a:hlinkClick r:id="" action="ppaction://hlinkshowjump?jump=nextslide"/>
          </p:cNvPr>
          <p:cNvSpPr/>
          <p:nvPr/>
        </p:nvSpPr>
        <p:spPr>
          <a:xfrm>
            <a:off x="2514600" y="6553080"/>
            <a:ext cx="4114800" cy="304920"/>
          </a:xfrm>
          <a:custGeom>
            <a:avLst/>
            <a:gdLst>
              <a:gd name="textAreaLeft" fmla="*/ 19440 w 4114800"/>
              <a:gd name="textAreaRight" fmla="*/ 4095360 w 4114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1167" h="21600">
                <a:moveTo>
                  <a:pt x="0" y="0"/>
                </a:moveTo>
                <a:lnTo>
                  <a:pt x="291167" y="0"/>
                </a:lnTo>
                <a:lnTo>
                  <a:pt x="291167" y="21600"/>
                </a:lnTo>
                <a:lnTo>
                  <a:pt x="0" y="21600"/>
                </a:lnTo>
                <a:close/>
              </a:path>
              <a:path fill="lightenLess" w="291167" h="21600">
                <a:moveTo>
                  <a:pt x="0" y="0"/>
                </a:moveTo>
                <a:lnTo>
                  <a:pt x="291167" y="0"/>
                </a:lnTo>
                <a:lnTo>
                  <a:pt x="289767" y="1400"/>
                </a:lnTo>
                <a:lnTo>
                  <a:pt x="1400" y="1400"/>
                </a:lnTo>
                <a:close/>
              </a:path>
              <a:path fill="darken" w="291167" h="21600">
                <a:moveTo>
                  <a:pt x="291167" y="0"/>
                </a:moveTo>
                <a:lnTo>
                  <a:pt x="291167" y="21600"/>
                </a:lnTo>
                <a:lnTo>
                  <a:pt x="289767" y="20200"/>
                </a:lnTo>
                <a:lnTo>
                  <a:pt x="289767" y="1400"/>
                </a:lnTo>
                <a:close/>
              </a:path>
              <a:path fill="darkenLess" w="291167" h="21600">
                <a:moveTo>
                  <a:pt x="29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67" y="20200"/>
                </a:lnTo>
                <a:close/>
              </a:path>
              <a:path fill="lighten" w="29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42d12"/>
                </a:solidFill>
                <a:latin typeface="StoneSerif SAIN SmBd v.1"/>
              </a:rPr>
              <a:t>Дополнительный отборочный 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387" dur="indefinite" restart="never" nodeType="tmRoot">
          <p:childTnLst>
            <p:seq>
              <p:cTn id="38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9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9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9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Расположите данные эпизоды в той же последовательности, что и в романе Пушкина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30481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А: письмо Татьяны к Онегин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В: дуэль Онегина с Ленски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С: сон Татьян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D: письмо Онегина к Татьян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1640" y="259056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письмо Татьяны к Онегину</a:t>
            </a:r>
            <a:r>
              <a:rPr b="0" lang="ru-RU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сон Татьян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дуэль Онегина с Ленски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письмо Онегина к Татья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5"/>
          <p:cNvSpPr/>
          <p:nvPr/>
        </p:nvSpPr>
        <p:spPr>
          <a:xfrm>
            <a:off x="4479840" y="32320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0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cc"/>
                </a:solidFill>
                <a:latin typeface="Times New Roman"/>
              </a:rPr>
              <a:t>Игра</a:t>
            </a:r>
            <a:r>
              <a:rPr b="1" lang="ru-RU" sz="6000" spc="-1" strike="noStrike">
                <a:solidFill>
                  <a:srgbClr val="9900cc"/>
                </a:solidFill>
                <a:latin typeface="Times New Roman"/>
              </a:rPr>
              <a:t> «</a:t>
            </a:r>
            <a:r>
              <a:rPr b="1" lang="ru-RU" sz="6000" spc="-1" strike="noStrike">
                <a:solidFill>
                  <a:srgbClr val="008000"/>
                </a:solidFill>
                <a:latin typeface="Times New Roman"/>
              </a:rPr>
              <a:t>Кто хочет стать миллионером?</a:t>
            </a:r>
            <a:r>
              <a:rPr b="1" lang="ru-RU" sz="6000" spc="-1" strike="noStrike">
                <a:solidFill>
                  <a:srgbClr val="9900cc"/>
                </a:solidFill>
                <a:latin typeface="Times New Roman"/>
              </a:rPr>
              <a:t>»</a:t>
            </a:r>
            <a:endParaRPr b="0" lang="en-US" sz="6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8" name="AutoShape 4">
            <a:hlinkClick r:id="rId1" action="ppaction://hlinksldjump"/>
          </p:cNvPr>
          <p:cNvSpPr/>
          <p:nvPr/>
        </p:nvSpPr>
        <p:spPr>
          <a:xfrm>
            <a:off x="2438280" y="2971800"/>
            <a:ext cx="4267440" cy="762120"/>
          </a:xfrm>
          <a:custGeom>
            <a:avLst/>
            <a:gdLst>
              <a:gd name="textAreaLeft" fmla="*/ 49320 w 4267440"/>
              <a:gd name="textAreaRight" fmla="*/ 4218120 w 4267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20901" h="21600">
                <a:moveTo>
                  <a:pt x="0" y="0"/>
                </a:moveTo>
                <a:lnTo>
                  <a:pt x="120901" y="0"/>
                </a:lnTo>
                <a:lnTo>
                  <a:pt x="120901" y="21600"/>
                </a:lnTo>
                <a:lnTo>
                  <a:pt x="0" y="21600"/>
                </a:lnTo>
                <a:close/>
              </a:path>
              <a:path fill="lightenLess" w="120901" h="21600">
                <a:moveTo>
                  <a:pt x="0" y="0"/>
                </a:moveTo>
                <a:lnTo>
                  <a:pt x="120901" y="0"/>
                </a:lnTo>
                <a:lnTo>
                  <a:pt x="119501" y="1400"/>
                </a:lnTo>
                <a:lnTo>
                  <a:pt x="1400" y="1400"/>
                </a:lnTo>
                <a:close/>
              </a:path>
              <a:path fill="darken" w="120901" h="21600">
                <a:moveTo>
                  <a:pt x="120901" y="0"/>
                </a:moveTo>
                <a:lnTo>
                  <a:pt x="120901" y="21600"/>
                </a:lnTo>
                <a:lnTo>
                  <a:pt x="119501" y="20200"/>
                </a:lnTo>
                <a:lnTo>
                  <a:pt x="119501" y="1400"/>
                </a:lnTo>
                <a:close/>
              </a:path>
              <a:path fill="darkenLess" w="120901" h="21600">
                <a:moveTo>
                  <a:pt x="120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01" y="20200"/>
                </a:lnTo>
                <a:close/>
              </a:path>
              <a:path fill="lighten" w="120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вый отборочный ту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AutoShape 5">
            <a:hlinkClick r:id="rId3" action="ppaction://hlinksldjump"/>
          </p:cNvPr>
          <p:cNvSpPr/>
          <p:nvPr/>
        </p:nvSpPr>
        <p:spPr>
          <a:xfrm>
            <a:off x="2438280" y="3962520"/>
            <a:ext cx="4267440" cy="685800"/>
          </a:xfrm>
          <a:custGeom>
            <a:avLst/>
            <a:gdLst>
              <a:gd name="textAreaLeft" fmla="*/ 44280 w 4267440"/>
              <a:gd name="textAreaRight" fmla="*/ 4223160 w 4267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34348" h="21600">
                <a:moveTo>
                  <a:pt x="0" y="0"/>
                </a:moveTo>
                <a:lnTo>
                  <a:pt x="134348" y="0"/>
                </a:lnTo>
                <a:lnTo>
                  <a:pt x="134348" y="21600"/>
                </a:lnTo>
                <a:lnTo>
                  <a:pt x="0" y="21600"/>
                </a:lnTo>
                <a:close/>
              </a:path>
              <a:path fill="lightenLess" w="134348" h="21600">
                <a:moveTo>
                  <a:pt x="0" y="0"/>
                </a:moveTo>
                <a:lnTo>
                  <a:pt x="134348" y="0"/>
                </a:lnTo>
                <a:lnTo>
                  <a:pt x="132948" y="1400"/>
                </a:lnTo>
                <a:lnTo>
                  <a:pt x="1400" y="1400"/>
                </a:lnTo>
                <a:close/>
              </a:path>
              <a:path fill="darken" w="134348" h="21600">
                <a:moveTo>
                  <a:pt x="134348" y="0"/>
                </a:moveTo>
                <a:lnTo>
                  <a:pt x="134348" y="21600"/>
                </a:lnTo>
                <a:lnTo>
                  <a:pt x="132948" y="20200"/>
                </a:lnTo>
                <a:lnTo>
                  <a:pt x="132948" y="1400"/>
                </a:lnTo>
                <a:close/>
              </a:path>
              <a:path fill="darkenLess" w="134348" h="21600">
                <a:moveTo>
                  <a:pt x="134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948" y="20200"/>
                </a:lnTo>
                <a:close/>
              </a:path>
              <a:path fill="lighten" w="134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торой отборочный ту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7" descr="116"/>
          <p:cNvPicPr/>
          <p:nvPr/>
        </p:nvPicPr>
        <p:blipFill>
          <a:blip r:embed="rId5"/>
          <a:stretch/>
        </p:blipFill>
        <p:spPr>
          <a:xfrm>
            <a:off x="1066680" y="5562720"/>
            <a:ext cx="438120" cy="47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99"/>
          <p:cNvPicPr/>
          <p:nvPr/>
        </p:nvPicPr>
        <p:blipFill>
          <a:blip r:embed="rId6"/>
          <a:stretch/>
        </p:blipFill>
        <p:spPr>
          <a:xfrm>
            <a:off x="1676520" y="5705640"/>
            <a:ext cx="428400" cy="466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104"/>
          <p:cNvPicPr/>
          <p:nvPr/>
        </p:nvPicPr>
        <p:blipFill>
          <a:blip r:embed="rId7"/>
          <a:stretch/>
        </p:blipFill>
        <p:spPr>
          <a:xfrm>
            <a:off x="2209680" y="5562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97"/>
          <p:cNvPicPr/>
          <p:nvPr/>
        </p:nvPicPr>
        <p:blipFill>
          <a:blip r:embed="rId8"/>
          <a:stretch/>
        </p:blipFill>
        <p:spPr>
          <a:xfrm>
            <a:off x="2819520" y="56959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116"/>
          <p:cNvPicPr/>
          <p:nvPr/>
        </p:nvPicPr>
        <p:blipFill>
          <a:blip r:embed="rId9"/>
          <a:stretch/>
        </p:blipFill>
        <p:spPr>
          <a:xfrm>
            <a:off x="3429000" y="5562720"/>
            <a:ext cx="438120" cy="476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117"/>
          <p:cNvPicPr/>
          <p:nvPr/>
        </p:nvPicPr>
        <p:blipFill>
          <a:blip r:embed="rId10"/>
          <a:stretch/>
        </p:blipFill>
        <p:spPr>
          <a:xfrm>
            <a:off x="3962520" y="5695920"/>
            <a:ext cx="457200" cy="47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108"/>
          <p:cNvPicPr/>
          <p:nvPr/>
        </p:nvPicPr>
        <p:blipFill>
          <a:blip r:embed="rId11"/>
          <a:stretch/>
        </p:blipFill>
        <p:spPr>
          <a:xfrm>
            <a:off x="4495680" y="5562720"/>
            <a:ext cx="400320" cy="476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105"/>
          <p:cNvPicPr/>
          <p:nvPr/>
        </p:nvPicPr>
        <p:blipFill>
          <a:blip r:embed="rId12"/>
          <a:stretch/>
        </p:blipFill>
        <p:spPr>
          <a:xfrm>
            <a:off x="5029200" y="5695920"/>
            <a:ext cx="190440" cy="476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5" descr="119"/>
          <p:cNvPicPr/>
          <p:nvPr/>
        </p:nvPicPr>
        <p:blipFill>
          <a:blip r:embed="rId13"/>
          <a:stretch/>
        </p:blipFill>
        <p:spPr>
          <a:xfrm>
            <a:off x="5334120" y="5562720"/>
            <a:ext cx="457200" cy="476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99"/>
          <p:cNvPicPr/>
          <p:nvPr/>
        </p:nvPicPr>
        <p:blipFill>
          <a:blip r:embed="rId14"/>
          <a:stretch/>
        </p:blipFill>
        <p:spPr>
          <a:xfrm>
            <a:off x="5867280" y="5705640"/>
            <a:ext cx="428760" cy="466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104"/>
          <p:cNvPicPr/>
          <p:nvPr/>
        </p:nvPicPr>
        <p:blipFill>
          <a:blip r:embed="rId15"/>
          <a:stretch/>
        </p:blipFill>
        <p:spPr>
          <a:xfrm>
            <a:off x="6400800" y="5562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105"/>
          <p:cNvPicPr/>
          <p:nvPr/>
        </p:nvPicPr>
        <p:blipFill>
          <a:blip r:embed="rId16"/>
          <a:stretch/>
        </p:blipFill>
        <p:spPr>
          <a:xfrm>
            <a:off x="7010280" y="5695920"/>
            <a:ext cx="19080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107"/>
          <p:cNvPicPr/>
          <p:nvPr/>
        </p:nvPicPr>
        <p:blipFill>
          <a:blip r:embed="rId17"/>
          <a:stretch/>
        </p:blipFill>
        <p:spPr>
          <a:xfrm>
            <a:off x="7315200" y="5562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0" descr="85"/>
          <p:cNvPicPr/>
          <p:nvPr/>
        </p:nvPicPr>
        <p:blipFill>
          <a:blip r:embed="rId18"/>
          <a:stretch/>
        </p:blipFill>
        <p:spPr>
          <a:xfrm>
            <a:off x="7924680" y="5638680"/>
            <a:ext cx="209520" cy="47628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21">
            <a:hlinkClick r:id="rId19" action="ppaction://hlinksldjump"/>
          </p:cNvPr>
          <p:cNvSpPr/>
          <p:nvPr/>
        </p:nvSpPr>
        <p:spPr>
          <a:xfrm>
            <a:off x="2438280" y="4876920"/>
            <a:ext cx="4267440" cy="914400"/>
          </a:xfrm>
          <a:custGeom>
            <a:avLst/>
            <a:gdLst>
              <a:gd name="textAreaLeft" fmla="*/ 59040 w 4267440"/>
              <a:gd name="textAreaRight" fmla="*/ 4208400 w 42674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100774" h="21600">
                <a:moveTo>
                  <a:pt x="0" y="0"/>
                </a:moveTo>
                <a:lnTo>
                  <a:pt x="100774" y="0"/>
                </a:lnTo>
                <a:lnTo>
                  <a:pt x="100774" y="21600"/>
                </a:lnTo>
                <a:lnTo>
                  <a:pt x="0" y="21600"/>
                </a:lnTo>
                <a:close/>
              </a:path>
              <a:path fill="lightenLess" w="100774" h="21600">
                <a:moveTo>
                  <a:pt x="0" y="0"/>
                </a:moveTo>
                <a:lnTo>
                  <a:pt x="100774" y="0"/>
                </a:lnTo>
                <a:lnTo>
                  <a:pt x="99375" y="1400"/>
                </a:lnTo>
                <a:lnTo>
                  <a:pt x="1400" y="1400"/>
                </a:lnTo>
                <a:close/>
              </a:path>
              <a:path fill="darken" w="100774" h="21600">
                <a:moveTo>
                  <a:pt x="100774" y="0"/>
                </a:moveTo>
                <a:lnTo>
                  <a:pt x="100774" y="21600"/>
                </a:lnTo>
                <a:lnTo>
                  <a:pt x="99375" y="20200"/>
                </a:lnTo>
                <a:lnTo>
                  <a:pt x="99375" y="1400"/>
                </a:lnTo>
                <a:close/>
              </a:path>
              <a:path fill="darkenLess" w="100774" h="21600">
                <a:moveTo>
                  <a:pt x="100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375" y="20200"/>
                </a:lnTo>
                <a:close/>
              </a:path>
              <a:path fill="lighten" w="100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етий отборочный ту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3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4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441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4200" spc="-1" strike="noStrike">
                <a:solidFill>
                  <a:srgbClr val="000099"/>
                </a:solidFill>
                <a:latin typeface="Tahoma"/>
              </a:rPr>
              <a:t>В кого поочередно превращался князь Гвидон, когда летал в царство Салтана? </a:t>
            </a:r>
            <a:endParaRPr b="0" lang="en-US" sz="4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388584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в шме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в мух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в комар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388584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В: в мух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А: в шмел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ff"/>
                </a:solidFill>
                <a:latin typeface="Tahoma"/>
              </a:rPr>
              <a:t>С: в кома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AutoShape 8">
            <a:hlinkClick r:id="rId1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AutoShape 9">
            <a:hlinkClick r:id="rId2" action="ppaction://hlinksldjump"/>
          </p:cNvPr>
          <p:cNvSpPr/>
          <p:nvPr/>
        </p:nvSpPr>
        <p:spPr>
          <a:xfrm>
            <a:off x="2514600" y="6553080"/>
            <a:ext cx="4114800" cy="304920"/>
          </a:xfrm>
          <a:custGeom>
            <a:avLst/>
            <a:gdLst>
              <a:gd name="textAreaLeft" fmla="*/ 19440 w 4114800"/>
              <a:gd name="textAreaRight" fmla="*/ 4095360 w 4114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1167" h="21600">
                <a:moveTo>
                  <a:pt x="0" y="0"/>
                </a:moveTo>
                <a:lnTo>
                  <a:pt x="291167" y="0"/>
                </a:lnTo>
                <a:lnTo>
                  <a:pt x="291167" y="21600"/>
                </a:lnTo>
                <a:lnTo>
                  <a:pt x="0" y="21600"/>
                </a:lnTo>
                <a:close/>
              </a:path>
              <a:path fill="lightenLess" w="291167" h="21600">
                <a:moveTo>
                  <a:pt x="0" y="0"/>
                </a:moveTo>
                <a:lnTo>
                  <a:pt x="291167" y="0"/>
                </a:lnTo>
                <a:lnTo>
                  <a:pt x="289767" y="1400"/>
                </a:lnTo>
                <a:lnTo>
                  <a:pt x="1400" y="1400"/>
                </a:lnTo>
                <a:close/>
              </a:path>
              <a:path fill="darken" w="291167" h="21600">
                <a:moveTo>
                  <a:pt x="291167" y="0"/>
                </a:moveTo>
                <a:lnTo>
                  <a:pt x="291167" y="21600"/>
                </a:lnTo>
                <a:lnTo>
                  <a:pt x="289767" y="20200"/>
                </a:lnTo>
                <a:lnTo>
                  <a:pt x="289767" y="1400"/>
                </a:lnTo>
                <a:close/>
              </a:path>
              <a:path fill="darkenLess" w="291167" h="21600">
                <a:moveTo>
                  <a:pt x="29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67" y="20200"/>
                </a:lnTo>
                <a:close/>
              </a:path>
              <a:path fill="lighten" w="29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42d12"/>
                </a:solidFill>
                <a:latin typeface="StoneSerif SAIN SmBd v.1"/>
              </a:rPr>
              <a:t>Дополнительный отборочный 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Расположите требования старухи из “Сказки о рыбаке и рыбке”.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3657600" cy="384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стать владычицей морскою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новый д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новое корыт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вольною цариц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76560" y="2286000"/>
            <a:ext cx="3809880" cy="382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новое корыт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новый до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вольною цариц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стать владычицей морскою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AutoShape 6">
            <a:hlinkClick r:id="rId1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2514600" y="6553080"/>
            <a:ext cx="4114800" cy="304920"/>
          </a:xfrm>
          <a:custGeom>
            <a:avLst/>
            <a:gdLst>
              <a:gd name="textAreaLeft" fmla="*/ 19440 w 4114800"/>
              <a:gd name="textAreaRight" fmla="*/ 4095360 w 4114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1167" h="21600">
                <a:moveTo>
                  <a:pt x="0" y="0"/>
                </a:moveTo>
                <a:lnTo>
                  <a:pt x="291167" y="0"/>
                </a:lnTo>
                <a:lnTo>
                  <a:pt x="291167" y="21600"/>
                </a:lnTo>
                <a:lnTo>
                  <a:pt x="0" y="21600"/>
                </a:lnTo>
                <a:close/>
              </a:path>
              <a:path fill="lightenLess" w="291167" h="21600">
                <a:moveTo>
                  <a:pt x="0" y="0"/>
                </a:moveTo>
                <a:lnTo>
                  <a:pt x="291167" y="0"/>
                </a:lnTo>
                <a:lnTo>
                  <a:pt x="289767" y="1400"/>
                </a:lnTo>
                <a:lnTo>
                  <a:pt x="1400" y="1400"/>
                </a:lnTo>
                <a:close/>
              </a:path>
              <a:path fill="darken" w="291167" h="21600">
                <a:moveTo>
                  <a:pt x="291167" y="0"/>
                </a:moveTo>
                <a:lnTo>
                  <a:pt x="291167" y="21600"/>
                </a:lnTo>
                <a:lnTo>
                  <a:pt x="289767" y="20200"/>
                </a:lnTo>
                <a:lnTo>
                  <a:pt x="289767" y="1400"/>
                </a:lnTo>
                <a:close/>
              </a:path>
              <a:path fill="darkenLess" w="291167" h="21600">
                <a:moveTo>
                  <a:pt x="29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67" y="20200"/>
                </a:lnTo>
                <a:close/>
              </a:path>
              <a:path fill="lighten" w="29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42d12"/>
                </a:solidFill>
                <a:latin typeface="StoneSerif SAIN SmBd v.1"/>
              </a:rPr>
              <a:t>Дополнительный отборочный ту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  <p:timing>
    <p:tnLst>
      <p:par>
        <p:cTn id="106" dur="indefinite" restart="never" nodeType="tmRoot">
          <p:childTnLst>
            <p:seq>
              <p:cTn id="10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5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5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5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51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Какие чудесные дары получил от царевны Лебеди князь Гвидон? Расположить их по порядку.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28951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А: царевна согласилась стать его жен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В: 33 богатыря с дядькой Черномор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С: чудный горо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D: белку с золотыми орех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28951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С: чудный город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D: белку с золотыми орех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В: 33 богатыря с дядькой Черномор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А: царевна согласилась стать его жено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vert"/>
  </p:transition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9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9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9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2365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Tahoma"/>
              </a:rPr>
              <a:t>Расположите периоды жизни Пушкина в хронологическом порядке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2590920"/>
            <a:ext cx="4343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лицейский пери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Михайловск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Болди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Южная ссыл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1640" y="2743200"/>
            <a:ext cx="4267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А: лицейский перио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D: Южная ссыл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С: Болди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ff"/>
                </a:solidFill>
                <a:latin typeface="Tahoma"/>
              </a:rPr>
              <a:t>В: Михайловско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85345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6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186" dur="indefinite" restart="never" nodeType="tmRoot">
          <p:childTnLst>
            <p:seq>
              <p:cTn id="18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2"/>
          <p:cNvSpPr/>
          <p:nvPr/>
        </p:nvSpPr>
        <p:spPr>
          <a:xfrm>
            <a:off x="3505320" y="3276720"/>
            <a:ext cx="1447560" cy="38088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3505320" y="914400"/>
            <a:ext cx="1447560" cy="380880"/>
          </a:xfrm>
          <a:prstGeom prst="flowChartProcess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3505320" y="1295280"/>
            <a:ext cx="1447560" cy="381240"/>
          </a:xfrm>
          <a:prstGeom prst="flowChartProcess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3505320" y="1676520"/>
            <a:ext cx="1447560" cy="380880"/>
          </a:xfrm>
          <a:prstGeom prst="flowChartProcess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AutoShape 6"/>
          <p:cNvSpPr/>
          <p:nvPr/>
        </p:nvSpPr>
        <p:spPr>
          <a:xfrm>
            <a:off x="3505320" y="2057400"/>
            <a:ext cx="1447560" cy="380880"/>
          </a:xfrm>
          <a:prstGeom prst="flowChartProcess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3505320" y="2438280"/>
            <a:ext cx="1447560" cy="381240"/>
          </a:xfrm>
          <a:prstGeom prst="flowChartProcess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3505320" y="2819520"/>
            <a:ext cx="1447560" cy="457200"/>
          </a:xfrm>
          <a:prstGeom prst="flowChartProcess">
            <a:avLst/>
          </a:prstGeom>
          <a:blipFill rotWithShape="0">
            <a:blip r:embed="rId7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3505320" y="533520"/>
            <a:ext cx="1447560" cy="380880"/>
          </a:xfrm>
          <a:prstGeom prst="flowChartProcess">
            <a:avLst/>
          </a:prstGeom>
          <a:blipFill rotWithShape="0">
            <a:blip r:embed="rId8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AutoShape 10"/>
          <p:cNvSpPr/>
          <p:nvPr/>
        </p:nvSpPr>
        <p:spPr>
          <a:xfrm>
            <a:off x="3505320" y="3657600"/>
            <a:ext cx="1447560" cy="380880"/>
          </a:xfrm>
          <a:prstGeom prst="flowChartProcess">
            <a:avLst/>
          </a:prstGeom>
          <a:blipFill rotWithShape="0">
            <a:blip r:embed="rId9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16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1"/>
          <p:cNvSpPr/>
          <p:nvPr/>
        </p:nvSpPr>
        <p:spPr>
          <a:xfrm>
            <a:off x="3505320" y="4038480"/>
            <a:ext cx="1447560" cy="381240"/>
          </a:xfrm>
          <a:prstGeom prst="flowChartProcess">
            <a:avLst/>
          </a:prstGeom>
          <a:blipFill rotWithShape="0">
            <a:blip r:embed="rId10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AutoShape 12"/>
          <p:cNvSpPr/>
          <p:nvPr/>
        </p:nvSpPr>
        <p:spPr>
          <a:xfrm>
            <a:off x="3505320" y="4419720"/>
            <a:ext cx="1447560" cy="380880"/>
          </a:xfrm>
          <a:prstGeom prst="flowChartProcess">
            <a:avLst/>
          </a:prstGeom>
          <a:blipFill rotWithShape="0">
            <a:blip r:embed="rId11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64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utoShape 13"/>
          <p:cNvSpPr/>
          <p:nvPr/>
        </p:nvSpPr>
        <p:spPr>
          <a:xfrm>
            <a:off x="3505320" y="4800600"/>
            <a:ext cx="1447560" cy="380880"/>
          </a:xfrm>
          <a:prstGeom prst="flowChartProcess">
            <a:avLst/>
          </a:prstGeom>
          <a:blipFill rotWithShape="0">
            <a:blip r:embed="rId12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125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AutoShape 14"/>
          <p:cNvSpPr/>
          <p:nvPr/>
        </p:nvSpPr>
        <p:spPr>
          <a:xfrm>
            <a:off x="3505320" y="5181480"/>
            <a:ext cx="1447560" cy="381240"/>
          </a:xfrm>
          <a:prstGeom prst="flowChartProcess">
            <a:avLst/>
          </a:prstGeom>
          <a:blipFill rotWithShape="0">
            <a:blip r:embed="rId13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25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3505320" y="5562720"/>
            <a:ext cx="1447560" cy="457200"/>
          </a:xfrm>
          <a:prstGeom prst="flowChartProcess">
            <a:avLst/>
          </a:prstGeom>
          <a:blipFill rotWithShape="0">
            <a:blip r:embed="rId14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5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3505320" y="6019920"/>
            <a:ext cx="1447560" cy="457200"/>
          </a:xfrm>
          <a:prstGeom prst="flowChartProcess">
            <a:avLst/>
          </a:prstGeom>
          <a:blipFill rotWithShape="0">
            <a:blip r:embed="rId15"/>
            <a:srcRect/>
            <a:stretch/>
          </a:blip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10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22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23" dur="250" autoRev="1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27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28" dur="250" autoRev="1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32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33" dur="250" autoRev="1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37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38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42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43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47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48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52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53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5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57" dur="25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58" dur="250" autoRev="1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62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63" dur="250" autoRev="1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500"/>
                            </p:stCondLst>
                            <p:childTnLst>
                              <p:par>
                                <p:cTn id="26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67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68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72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73" dur="25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500"/>
                            </p:stCondLst>
                            <p:childTnLst>
                              <p:par>
                                <p:cTn id="2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77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78" dur="250" autoRev="1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8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82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83" dur="250" autoRev="1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87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88" dur="250" autoRev="1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000"/>
                            </p:stCondLst>
                            <p:childTnLst>
                              <p:par>
                                <p:cTn id="29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animClr clrSpc="rgb">
                                      <p:cBhvr>
                                        <p:cTn id="292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1f622"/>
                                      </p:to>
                                    </p:animClr>
                                    <p:set>
                                      <p:cBhvr>
                                        <p:cTn id="293" dur="250" autoRev="1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500"/>
                            </p:stCondLst>
                            <p:childTnLst>
                              <p:par>
                                <p:cTn id="295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9500"/>
                            </p:stCondLst>
                            <p:childTnLst>
                              <p:par>
                                <p:cTn id="298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04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30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Oval 2"/>
          <p:cNvSpPr/>
          <p:nvPr/>
        </p:nvSpPr>
        <p:spPr>
          <a:xfrm>
            <a:off x="914400" y="685800"/>
            <a:ext cx="2362320" cy="2286000"/>
          </a:xfrm>
          <a:prstGeom prst="ellipse">
            <a:avLst/>
          </a:prstGeom>
          <a:solidFill>
            <a:srgbClr val="c6d4d4"/>
          </a:solidFill>
          <a:ln w="38160">
            <a:solidFill>
              <a:srgbClr val="4c0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3200400" y="2362320"/>
            <a:ext cx="2666880" cy="2286000"/>
          </a:xfrm>
          <a:prstGeom prst="ellipse">
            <a:avLst/>
          </a:prstGeom>
          <a:solidFill>
            <a:srgbClr val="c6d4d4"/>
          </a:solidFill>
          <a:ln w="38160">
            <a:solidFill>
              <a:srgbClr val="4c0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5638680" y="4114800"/>
            <a:ext cx="2667240" cy="2209680"/>
          </a:xfrm>
          <a:prstGeom prst="ellipse">
            <a:avLst/>
          </a:prstGeom>
          <a:solidFill>
            <a:srgbClr val="c6d4d4"/>
          </a:solidFill>
          <a:ln w="38160">
            <a:solidFill>
              <a:srgbClr val="4c08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1523880" y="1295280"/>
                <a:ext cx="121932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2" name="Picture 6" descr="SY00629_"/>
          <p:cNvPicPr/>
          <p:nvPr/>
        </p:nvPicPr>
        <p:blipFill>
          <a:blip r:embed="rId1"/>
          <a:stretch/>
        </p:blipFill>
        <p:spPr>
          <a:xfrm>
            <a:off x="6324480" y="4343400"/>
            <a:ext cx="1087560" cy="1789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j0301252"/>
          <p:cNvPicPr/>
          <p:nvPr/>
        </p:nvPicPr>
        <p:blipFill>
          <a:blip r:embed="rId2"/>
          <a:stretch/>
        </p:blipFill>
        <p:spPr>
          <a:xfrm>
            <a:off x="3733920" y="2712960"/>
            <a:ext cx="1676160" cy="14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9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4"/>
          <p:cNvSpPr/>
          <p:nvPr/>
        </p:nvSpPr>
        <p:spPr>
          <a:xfrm>
            <a:off x="1752480" y="914400"/>
            <a:ext cx="5562720" cy="1143000"/>
          </a:xfrm>
          <a:custGeom>
            <a:avLst/>
            <a:gdLst>
              <a:gd name="textAreaLeft" fmla="*/ 73800 w 5562720"/>
              <a:gd name="textAreaRight" fmla="*/ 5488920 w 55627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5096" h="21600">
                <a:moveTo>
                  <a:pt x="0" y="0"/>
                </a:moveTo>
                <a:lnTo>
                  <a:pt x="105096" y="0"/>
                </a:lnTo>
                <a:lnTo>
                  <a:pt x="105096" y="21600"/>
                </a:lnTo>
                <a:lnTo>
                  <a:pt x="0" y="21600"/>
                </a:lnTo>
                <a:close/>
              </a:path>
              <a:path fill="lightenLess" w="105096" h="21600">
                <a:moveTo>
                  <a:pt x="0" y="0"/>
                </a:moveTo>
                <a:lnTo>
                  <a:pt x="105096" y="0"/>
                </a:lnTo>
                <a:lnTo>
                  <a:pt x="103696" y="1400"/>
                </a:lnTo>
                <a:lnTo>
                  <a:pt x="1400" y="1400"/>
                </a:lnTo>
                <a:close/>
              </a:path>
              <a:path fill="darken" w="105096" h="21600">
                <a:moveTo>
                  <a:pt x="105096" y="0"/>
                </a:moveTo>
                <a:lnTo>
                  <a:pt x="105096" y="21600"/>
                </a:lnTo>
                <a:lnTo>
                  <a:pt x="103696" y="20200"/>
                </a:lnTo>
                <a:lnTo>
                  <a:pt x="103696" y="1400"/>
                </a:lnTo>
                <a:close/>
              </a:path>
              <a:path fill="darkenLess" w="105096" h="21600">
                <a:moveTo>
                  <a:pt x="105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696" y="20200"/>
                </a:lnTo>
                <a:close/>
              </a:path>
              <a:path fill="lighten" w="105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a9e"/>
                </a:solidFill>
                <a:latin typeface="Rockwell Extra Bold"/>
              </a:rPr>
              <a:t>ТУР</a:t>
            </a:r>
            <a:r>
              <a:rPr b="0" lang="ru-RU" sz="4000" spc="-1" strike="noStrike">
                <a:solidFill>
                  <a:srgbClr val="fcfa9e"/>
                </a:solidFill>
                <a:latin typeface="Rockwell Extra Bold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1752480" y="2590920"/>
            <a:ext cx="5562720" cy="1143000"/>
          </a:xfrm>
          <a:custGeom>
            <a:avLst/>
            <a:gdLst>
              <a:gd name="textAreaLeft" fmla="*/ 73800 w 5562720"/>
              <a:gd name="textAreaRight" fmla="*/ 5488920 w 55627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5096" h="21600">
                <a:moveTo>
                  <a:pt x="0" y="0"/>
                </a:moveTo>
                <a:lnTo>
                  <a:pt x="105096" y="0"/>
                </a:lnTo>
                <a:lnTo>
                  <a:pt x="105096" y="21600"/>
                </a:lnTo>
                <a:lnTo>
                  <a:pt x="0" y="21600"/>
                </a:lnTo>
                <a:close/>
              </a:path>
              <a:path fill="lightenLess" w="105096" h="21600">
                <a:moveTo>
                  <a:pt x="0" y="0"/>
                </a:moveTo>
                <a:lnTo>
                  <a:pt x="105096" y="0"/>
                </a:lnTo>
                <a:lnTo>
                  <a:pt x="103696" y="1400"/>
                </a:lnTo>
                <a:lnTo>
                  <a:pt x="1400" y="1400"/>
                </a:lnTo>
                <a:close/>
              </a:path>
              <a:path fill="darken" w="105096" h="21600">
                <a:moveTo>
                  <a:pt x="105096" y="0"/>
                </a:moveTo>
                <a:lnTo>
                  <a:pt x="105096" y="21600"/>
                </a:lnTo>
                <a:lnTo>
                  <a:pt x="103696" y="20200"/>
                </a:lnTo>
                <a:lnTo>
                  <a:pt x="103696" y="1400"/>
                </a:lnTo>
                <a:close/>
              </a:path>
              <a:path fill="darkenLess" w="105096" h="21600">
                <a:moveTo>
                  <a:pt x="105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696" y="20200"/>
                </a:lnTo>
                <a:close/>
              </a:path>
              <a:path fill="lighten" w="105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a9e"/>
                </a:solidFill>
                <a:latin typeface="Rockwell Extra Bold"/>
              </a:rPr>
              <a:t>ТУР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1752480" y="4267080"/>
            <a:ext cx="5562720" cy="1143000"/>
          </a:xfrm>
          <a:custGeom>
            <a:avLst/>
            <a:gdLst>
              <a:gd name="textAreaLeft" fmla="*/ 73800 w 5562720"/>
              <a:gd name="textAreaRight" fmla="*/ 5488920 w 55627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105096" h="21600">
                <a:moveTo>
                  <a:pt x="0" y="0"/>
                </a:moveTo>
                <a:lnTo>
                  <a:pt x="105096" y="0"/>
                </a:lnTo>
                <a:lnTo>
                  <a:pt x="105096" y="21600"/>
                </a:lnTo>
                <a:lnTo>
                  <a:pt x="0" y="21600"/>
                </a:lnTo>
                <a:close/>
              </a:path>
              <a:path fill="lightenLess" w="105096" h="21600">
                <a:moveTo>
                  <a:pt x="0" y="0"/>
                </a:moveTo>
                <a:lnTo>
                  <a:pt x="105096" y="0"/>
                </a:lnTo>
                <a:lnTo>
                  <a:pt x="103696" y="1400"/>
                </a:lnTo>
                <a:lnTo>
                  <a:pt x="1400" y="1400"/>
                </a:lnTo>
                <a:close/>
              </a:path>
              <a:path fill="darken" w="105096" h="21600">
                <a:moveTo>
                  <a:pt x="105096" y="0"/>
                </a:moveTo>
                <a:lnTo>
                  <a:pt x="105096" y="21600"/>
                </a:lnTo>
                <a:lnTo>
                  <a:pt x="103696" y="20200"/>
                </a:lnTo>
                <a:lnTo>
                  <a:pt x="103696" y="1400"/>
                </a:lnTo>
                <a:close/>
              </a:path>
              <a:path fill="darkenLess" w="105096" h="21600">
                <a:moveTo>
                  <a:pt x="1050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696" y="20200"/>
                </a:lnTo>
                <a:close/>
              </a:path>
              <a:path fill="lighten" w="1050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fa9e"/>
                </a:solidFill>
                <a:latin typeface="Rockwell Extra Bold"/>
              </a:rPr>
              <a:t>ТУР 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om</cp:lastModifiedBy>
  <dcterms:modified xsi:type="dcterms:W3CDTF">2015-02-02T15:45:02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